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75A-CFAB-4C19-947C-5D05467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B07-61CD-4B25-BEFE-513B344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707-070A-49E4-894D-9144707E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3B6-487A-46F2-94C8-92342C25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F440-5538-4B2E-BB7A-2F5683A2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7D4D-AB23-4B40-8F5F-0CF8DDB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7EF-7CA0-4958-A62D-1F34BCF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64BD-C0B4-4A2C-B8A1-96CCE03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5452-3A94-408F-9A05-8A03111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8B6-4165-41E3-AC19-C50DAC50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F2C7-3BCF-407D-89F1-8BD42B2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F3D-CBE7-4712-B978-84AC13F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044-177B-4797-997D-50BC3BB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473-9E98-4A36-8BDD-21AA9D0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6D5E-19FF-41E9-8AA6-7B6A0EB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EC0A-CC9B-4828-B58A-ACD5FA7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25A-859B-4C30-AC12-4A768B7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B521-21FC-4189-AB51-9AD3FA46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10C6-0BED-4485-A2D6-DE7266C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30AD-C744-4649-A981-6AF5F7CB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A91D-216E-4A56-9F53-92CAE2B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A177-9003-447F-9975-3B48CA3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7C6-FCBE-49FE-BD84-C088768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1EC5-1B01-44AD-B32A-2F0C32C0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540F-D113-454F-A2BA-A5AF6D01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931CE-A5B5-4104-8CEB-1A4EA2E2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2482-42B7-4FD8-B852-4D29EA95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EF73-D47A-43AF-852B-BB6B1FB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879D-5D3E-4E2C-AC17-C0635EE1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948A-9C11-4C0E-8368-C40C1F40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D381-D72A-4A87-8631-5AF870AB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3820-E72D-4D10-820A-9233DAF5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B0CE-C478-4C12-BCD6-171097B3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DB1-77C8-4513-87F9-C16CB4A3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696E-E65C-45AC-9C8B-6A1B224F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07F2-7BF6-4830-9496-00D5D77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E0B3-B6BF-4F0E-83B3-19924142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223E-041E-4DA5-8901-C9FDBAB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D803-4577-448A-AF2B-1A02BAD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E91C-218E-4DEF-8E5B-CD29B3B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30A4-DEA1-404C-973B-3007F70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B0CA-5A61-4042-87BC-FEA963D3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98BB-9E49-428D-85D4-18F20AA8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7944-070A-43DC-8BD0-F03BAF5E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C45-7700-4DB2-A224-E73528D5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B748-434D-4261-B286-6CD82BF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F562-9FEB-4846-A573-AB51B6E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B292A-1AC4-4DC2-ACFA-C6B19AFF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04E9-5110-4D90-9168-4843BCE9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3F1BC-3F68-4BC1-8CE3-5DF0ADE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A9FA-E1C5-43E9-A4C5-1E45BE4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C29F-C3A8-4F9A-A177-0356BB4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61EA-C371-440E-9288-3FDDE8C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614C-4262-41A8-BBAA-37AD1371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21DE-352A-4D10-BFA7-B6A8CD3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5FB-F072-4232-BECF-1CA45BE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B5F9-9DA1-4F74-BC2B-7B53439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E90-E4C5-42D1-BD2C-51A1E16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C0F-5402-4B68-B3A1-AE7C47E8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39C-44F4-4163-B857-73C0A12E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55B5-2BB0-46BB-A723-125E1FF7A938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6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Rectangle 8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A93-58C4-40FB-8A08-1376708A03A1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9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8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BC2E-A5F5-44A3-9C30-3606219D3950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37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8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3EC-349A-43B4-9130-65C247DFAC4D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1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8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8B9-D20A-4BC1-BE67-2632BCD3B9FD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4200" y="2565360"/>
            <a:ext cx="878688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«ПРИЁМЫ ПОВЫШЕНИЯ УЧЕБНОЙ МОТИВАЦИИ НА УРОКАХ МАТЕМАТИКИ В НАЧАЛЬНЫХ КЛАССАХ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9"/>
          <p:cNvSpPr/>
          <p:nvPr/>
        </p:nvSpPr>
        <p:spPr>
          <a:xfrm flipV="1" rot="10788000">
            <a:off x="6121080" y="4946400"/>
            <a:ext cx="3019320" cy="14518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76320">
            <a:solidFill>
              <a:srgbClr val="eff4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СОШ 4 им.В.В.Шитика ст.Атаман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втун М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140360" y="2332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«Можно коня привести к водопою, но заставить его напиться нельзя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родная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МОТИВАЦИИ (ОРГ.МОМЕНТА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143"/>
          <p:cNvSpPr/>
          <p:nvPr/>
        </p:nvSpPr>
        <p:spPr>
          <a:xfrm>
            <a:off x="38386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4"/>
          <p:cNvSpPr/>
          <p:nvPr/>
        </p:nvSpPr>
        <p:spPr>
          <a:xfrm>
            <a:off x="38386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1"/>
          <p:cNvGrpSpPr/>
          <p:nvPr/>
        </p:nvGrpSpPr>
        <p:grpSpPr>
          <a:xfrm>
            <a:off x="324000" y="1773360"/>
            <a:ext cx="5069880" cy="815400"/>
            <a:chOff x="324000" y="1773360"/>
            <a:chExt cx="5069880" cy="815400"/>
          </a:xfrm>
        </p:grpSpPr>
        <p:sp>
          <p:nvSpPr>
            <p:cNvPr id="234" name="AutoShape 52"/>
            <p:cNvSpPr/>
            <p:nvPr/>
          </p:nvSpPr>
          <p:spPr>
            <a:xfrm>
              <a:off x="757080" y="1773360"/>
              <a:ext cx="4636800" cy="815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3"/>
            <p:cNvSpPr/>
            <p:nvPr/>
          </p:nvSpPr>
          <p:spPr>
            <a:xfrm>
              <a:off x="324000" y="1781640"/>
              <a:ext cx="685440" cy="73548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4"/>
            <p:cNvSpPr/>
            <p:nvPr/>
          </p:nvSpPr>
          <p:spPr>
            <a:xfrm>
              <a:off x="985680" y="183276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оздороваемся ладошкам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1"/>
          <p:cNvGrpSpPr/>
          <p:nvPr/>
        </p:nvGrpSpPr>
        <p:grpSpPr>
          <a:xfrm>
            <a:off x="395280" y="2637000"/>
            <a:ext cx="5073120" cy="869400"/>
            <a:chOff x="395280" y="2637000"/>
            <a:chExt cx="5073120" cy="869400"/>
          </a:xfrm>
        </p:grpSpPr>
        <p:sp>
          <p:nvSpPr>
            <p:cNvPr id="238" name="AutoShape 52"/>
            <p:cNvSpPr/>
            <p:nvPr/>
          </p:nvSpPr>
          <p:spPr>
            <a:xfrm>
              <a:off x="840960" y="2674800"/>
              <a:ext cx="4627440" cy="831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3"/>
            <p:cNvSpPr/>
            <p:nvPr/>
          </p:nvSpPr>
          <p:spPr>
            <a:xfrm>
              <a:off x="395280" y="2710440"/>
              <a:ext cx="699840" cy="77976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4"/>
            <p:cNvSpPr/>
            <p:nvPr/>
          </p:nvSpPr>
          <p:spPr>
            <a:xfrm>
              <a:off x="683640" y="2637000"/>
              <a:ext cx="36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одари подарок другу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5"/>
            <p:cNvSpPr/>
            <p:nvPr/>
          </p:nvSpPr>
          <p:spPr>
            <a:xfrm>
              <a:off x="534240" y="2778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1"/>
          <p:cNvGrpSpPr/>
          <p:nvPr/>
        </p:nvGrpSpPr>
        <p:grpSpPr>
          <a:xfrm>
            <a:off x="395280" y="3573360"/>
            <a:ext cx="5122800" cy="830160"/>
            <a:chOff x="395280" y="3573360"/>
            <a:chExt cx="5122800" cy="830160"/>
          </a:xfrm>
        </p:grpSpPr>
        <p:sp>
          <p:nvSpPr>
            <p:cNvPr id="243" name="AutoShape 52"/>
            <p:cNvSpPr/>
            <p:nvPr/>
          </p:nvSpPr>
          <p:spPr>
            <a:xfrm>
              <a:off x="890640" y="3573360"/>
              <a:ext cx="4627440" cy="830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3"/>
            <p:cNvSpPr/>
            <p:nvPr/>
          </p:nvSpPr>
          <p:spPr>
            <a:xfrm>
              <a:off x="395280" y="3573360"/>
              <a:ext cx="755640" cy="75744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95280" y="3602160"/>
              <a:ext cx="41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Добро в ладошках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5"/>
            <p:cNvSpPr/>
            <p:nvPr/>
          </p:nvSpPr>
          <p:spPr>
            <a:xfrm>
              <a:off x="639720" y="365616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51"/>
          <p:cNvGrpSpPr/>
          <p:nvPr/>
        </p:nvGrpSpPr>
        <p:grpSpPr>
          <a:xfrm>
            <a:off x="324000" y="4437000"/>
            <a:ext cx="5127480" cy="787320"/>
            <a:chOff x="324000" y="4437000"/>
            <a:chExt cx="5127480" cy="787320"/>
          </a:xfrm>
        </p:grpSpPr>
        <p:sp>
          <p:nvSpPr>
            <p:cNvPr id="248" name="AutoShape 52"/>
            <p:cNvSpPr/>
            <p:nvPr/>
          </p:nvSpPr>
          <p:spPr>
            <a:xfrm>
              <a:off x="836640" y="4468680"/>
              <a:ext cx="4614840" cy="7556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3"/>
            <p:cNvSpPr/>
            <p:nvPr/>
          </p:nvSpPr>
          <p:spPr>
            <a:xfrm>
              <a:off x="324000" y="4437000"/>
              <a:ext cx="765360" cy="75708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900360" y="4508280"/>
              <a:ext cx="38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пиграф, притча, стих -настр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5"/>
            <p:cNvSpPr/>
            <p:nvPr/>
          </p:nvSpPr>
          <p:spPr>
            <a:xfrm>
              <a:off x="2041560" y="45446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1"/>
          <p:cNvGrpSpPr/>
          <p:nvPr/>
        </p:nvGrpSpPr>
        <p:grpSpPr>
          <a:xfrm>
            <a:off x="6012000" y="0"/>
            <a:ext cx="2896560" cy="6022080"/>
            <a:chOff x="6012000" y="0"/>
            <a:chExt cx="2896560" cy="6022080"/>
          </a:xfrm>
        </p:grpSpPr>
        <p:sp>
          <p:nvSpPr>
            <p:cNvPr id="253" name="AutoShape 52"/>
            <p:cNvSpPr/>
            <p:nvPr/>
          </p:nvSpPr>
          <p:spPr>
            <a:xfrm>
              <a:off x="6012000" y="1701360"/>
              <a:ext cx="2702520" cy="4320720"/>
            </a:xfrm>
            <a:custGeom>
              <a:avLst/>
              <a:gdLst>
                <a:gd name="textAreaLeft" fmla="*/ 131760 w 2702520"/>
                <a:gd name="textAreaRight" fmla="*/ 2570760 w 2702520"/>
                <a:gd name="textAreaTop" fmla="*/ 131760 h 4320720"/>
                <a:gd name="textAreaBottom" fmla="*/ 4188960 h 4320720"/>
              </a:gdLst>
              <a:ahLst/>
              <a:rect l="textAreaLeft" t="textAreaTop" r="textAreaRight" b="textAreaBottom"/>
              <a:pathLst>
                <a:path w="21600" h="34532">
                  <a:moveTo>
                    <a:pt x="3600" y="0"/>
                  </a:moveTo>
                  <a:arcTo wR="3600" hR="3600" stAng="16200000" swAng="-5400000"/>
                  <a:lnTo>
                    <a:pt x="0" y="30932"/>
                  </a:lnTo>
                  <a:arcTo wR="3600" hR="3600" stAng="10800000" swAng="-5400000"/>
                  <a:lnTo>
                    <a:pt x="18000" y="34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54"/>
            <p:cNvSpPr/>
            <p:nvPr/>
          </p:nvSpPr>
          <p:spPr>
            <a:xfrm>
              <a:off x="6082560" y="2010600"/>
              <a:ext cx="2826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буждает мыслительную активность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циплинирует учащихся, позволяет им быстро включиться в работу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билизует внимание учащихс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агоприятный психологический настр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5"/>
            <p:cNvSpPr/>
            <p:nvPr/>
          </p:nvSpPr>
          <p:spPr>
            <a:xfrm>
              <a:off x="7363080" y="0"/>
              <a:ext cx="1443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Правая фигурная скобка 42"/>
          <p:cNvSpPr/>
          <p:nvPr/>
        </p:nvSpPr>
        <p:spPr>
          <a:xfrm>
            <a:off x="5580000" y="1844640"/>
            <a:ext cx="357120" cy="31273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3127320"/>
              <a:gd name="textAreaBottom" fmla="*/ 3118320 h 31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09720" cy="15620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0" descr="81f8f05d-b6c9-44e8-a43f-6f8b39b0fda7.jpg"/>
          <p:cNvPicPr/>
          <p:nvPr/>
        </p:nvPicPr>
        <p:blipFill>
          <a:blip r:embed="rId2"/>
          <a:stretch/>
        </p:blipFill>
        <p:spPr>
          <a:xfrm>
            <a:off x="1974960" y="5224320"/>
            <a:ext cx="34686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71800" y="2599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АКТУАЛИЗАЦИИ ЗНАН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Равнобедренный треугольник 15"/>
          <p:cNvSpPr/>
          <p:nvPr/>
        </p:nvSpPr>
        <p:spPr>
          <a:xfrm rot="5400000">
            <a:off x="1129320" y="3742200"/>
            <a:ext cx="5049720" cy="1114560"/>
          </a:xfrm>
          <a:prstGeom prst="triangle">
            <a:avLst>
              <a:gd name="adj" fmla="val 50685"/>
            </a:avLst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2"/>
          <p:cNvSpPr/>
          <p:nvPr/>
        </p:nvSpPr>
        <p:spPr>
          <a:xfrm>
            <a:off x="147600" y="2644920"/>
            <a:ext cx="2754360" cy="72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глас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оглас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182520" y="1828800"/>
            <a:ext cx="2719440" cy="72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6"/>
          <p:cNvSpPr/>
          <p:nvPr/>
        </p:nvSpPr>
        <p:spPr>
          <a:xfrm>
            <a:off x="147600" y="3451320"/>
            <a:ext cx="2754360" cy="72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7"/>
          <p:cNvSpPr/>
          <p:nvPr/>
        </p:nvSpPr>
        <p:spPr>
          <a:xfrm>
            <a:off x="160200" y="4265640"/>
            <a:ext cx="2741760" cy="72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аконченная ф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18"/>
          <p:cNvSpPr/>
          <p:nvPr/>
        </p:nvSpPr>
        <p:spPr>
          <a:xfrm>
            <a:off x="147600" y="5072040"/>
            <a:ext cx="2754360" cy="725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айди ошиб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19"/>
          <p:cNvSpPr/>
          <p:nvPr/>
        </p:nvSpPr>
        <p:spPr>
          <a:xfrm>
            <a:off x="147600" y="5877000"/>
            <a:ext cx="2754360" cy="869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0"/>
          <p:cNvSpPr/>
          <p:nvPr/>
        </p:nvSpPr>
        <p:spPr>
          <a:xfrm>
            <a:off x="4284720" y="1700280"/>
            <a:ext cx="4572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живляют» познавательную деятельнос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одготовить обучающихся к осуществлению  самостоятельн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школьников к восприятию нов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ть свою точку зр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воспринимать чужое 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4"/>
          <p:cNvSpPr/>
          <p:nvPr/>
        </p:nvSpPr>
        <p:spPr>
          <a:xfrm>
            <a:off x="4643280" y="1773360"/>
            <a:ext cx="4176720" cy="4032000"/>
          </a:xfrm>
          <a:prstGeom prst="rect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АКТУАЛИЗАЦИИ ЗНАНИ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5076720" y="1844640"/>
            <a:ext cx="34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2класс, тема «Связь умножения со сложение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=, 3+3+3+3+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действием можно заменить сумму, чтобы получить верное равен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·2·2·2·2·2=, 3·3·3·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способ замены произведения другим действие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пробл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им действием можно заменить произведение нескольких одинаковых множ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611280" y="1773360"/>
            <a:ext cx="3384360" cy="2592360"/>
          </a:xfrm>
          <a:prstGeom prst="rect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е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глас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, тема «Класс единиц, класс тысяч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 7320   7тысяч, 3сотни, 2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 145312, 145 относится 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у, 312 к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6" descr="img12.jpg"/>
          <p:cNvPicPr/>
          <p:nvPr/>
        </p:nvPicPr>
        <p:blipFill>
          <a:blip r:embed="rId2"/>
          <a:stretch/>
        </p:blipFill>
        <p:spPr>
          <a:xfrm>
            <a:off x="390600" y="4572000"/>
            <a:ext cx="4187880" cy="2090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1403280" y="4365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РЕФЛЕКС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с двумя скругленными противолежащими углами 7"/>
          <p:cNvSpPr/>
          <p:nvPr/>
        </p:nvSpPr>
        <p:spPr>
          <a:xfrm>
            <a:off x="179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ва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с двумя скругленными противолежащими углами 8"/>
          <p:cNvSpPr/>
          <p:nvPr/>
        </p:nvSpPr>
        <p:spPr>
          <a:xfrm>
            <a:off x="4643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с двумя скругленными противолежащими углами 9"/>
          <p:cNvSpPr/>
          <p:nvPr/>
        </p:nvSpPr>
        <p:spPr>
          <a:xfrm>
            <a:off x="2411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мент сос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с двумя скругленными противолежащими углами 11"/>
          <p:cNvSpPr/>
          <p:nvPr/>
        </p:nvSpPr>
        <p:spPr>
          <a:xfrm>
            <a:off x="0" y="5229360"/>
            <a:ext cx="9039240" cy="1533240"/>
          </a:xfrm>
          <a:prstGeom prst="pie">
            <a:avLst/>
          </a:prstGeom>
          <a:solidFill>
            <a:srgbClr val="cc99ff"/>
          </a:solidFill>
          <a:ln w="507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управлять собственной активностью в соответствии с личностными ценностями и смыслами;  формировать и переключаться на новые механизмы в связи с изменившимися условиями деятельности; находить социально ценные, личностно значимые и реальные способы реализации себя в общении и ученическ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38160" cy="15858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4"/>
          <p:cNvSpPr/>
          <p:nvPr/>
        </p:nvSpPr>
        <p:spPr>
          <a:xfrm>
            <a:off x="104292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16"/>
          <p:cNvSpPr/>
          <p:nvPr/>
        </p:nvSpPr>
        <p:spPr>
          <a:xfrm>
            <a:off x="6804000" y="4292640"/>
            <a:ext cx="190332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7" descr="Безымянный.jpg"/>
          <p:cNvPicPr/>
          <p:nvPr/>
        </p:nvPicPr>
        <p:blipFill>
          <a:blip r:embed="rId2"/>
          <a:stretch/>
        </p:blipFill>
        <p:spPr>
          <a:xfrm>
            <a:off x="4780080" y="1841400"/>
            <a:ext cx="3541680" cy="21272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0" descr="137a53c5-88ae-4d3c-bd22-cc2dc57b7527.jpg"/>
          <p:cNvPicPr/>
          <p:nvPr/>
        </p:nvPicPr>
        <p:blipFill>
          <a:blip r:embed="rId3"/>
          <a:stretch/>
        </p:blipFill>
        <p:spPr>
          <a:xfrm>
            <a:off x="822240" y="1908000"/>
            <a:ext cx="34941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288" name="Скругленный прямоугольник 26"/>
          <p:cNvSpPr/>
          <p:nvPr/>
        </p:nvSpPr>
        <p:spPr>
          <a:xfrm>
            <a:off x="3780000" y="2276640"/>
            <a:ext cx="5182920" cy="3457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4140360" y="2565360"/>
            <a:ext cx="45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ая мотивация является основой успешности урока, толчком к самореализации каждого учащегося на уроке, главной движущей силой, формирующей интерес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6"/>
          <p:cNvCxnSpPr/>
          <p:nvPr/>
        </p:nvCxnSpPr>
        <p:spPr>
          <a:xfrm flipH="1" flipV="1">
            <a:off x="2268360" y="2349000"/>
            <a:ext cx="1440360" cy="21672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1" name="Овал 7"/>
          <p:cNvSpPr/>
          <p:nvPr/>
        </p:nvSpPr>
        <p:spPr>
          <a:xfrm>
            <a:off x="179280" y="1844640"/>
            <a:ext cx="2089080" cy="107964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большего количества обучающихся в олимпи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8"/>
          <p:cNvCxnSpPr/>
          <p:nvPr/>
        </p:nvCxnSpPr>
        <p:spPr>
          <a:xfrm flipH="1">
            <a:off x="2194920" y="3715920"/>
            <a:ext cx="1440360" cy="108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3" name="Овал 10"/>
          <p:cNvSpPr/>
          <p:nvPr/>
        </p:nvSpPr>
        <p:spPr>
          <a:xfrm>
            <a:off x="179280" y="3068640"/>
            <a:ext cx="1944720" cy="122400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11"/>
          <p:cNvCxnSpPr/>
          <p:nvPr/>
        </p:nvCxnSpPr>
        <p:spPr>
          <a:xfrm flipH="1">
            <a:off x="2194920" y="5013000"/>
            <a:ext cx="1440360" cy="108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5" name="Овал 12"/>
          <p:cNvSpPr/>
          <p:nvPr/>
        </p:nvSpPr>
        <p:spPr>
          <a:xfrm>
            <a:off x="179280" y="4437000"/>
            <a:ext cx="2016360" cy="115272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моции от получен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3"/>
          <p:cNvCxnSpPr/>
          <p:nvPr/>
        </p:nvCxnSpPr>
        <p:spPr>
          <a:xfrm flipH="1">
            <a:off x="2484000" y="5877000"/>
            <a:ext cx="1224720" cy="28944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7" name="Овал 15"/>
          <p:cNvSpPr/>
          <p:nvPr/>
        </p:nvSpPr>
        <p:spPr>
          <a:xfrm>
            <a:off x="179280" y="5661000"/>
            <a:ext cx="2016360" cy="100800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видов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771560" cy="15303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image_57c753a138c7d.gif"/>
          <p:cNvPicPr/>
          <p:nvPr/>
        </p:nvPicPr>
        <p:blipFill>
          <a:blip r:embed="rId2"/>
          <a:stretch/>
        </p:blipFill>
        <p:spPr>
          <a:xfrm>
            <a:off x="1763640" y="1428840"/>
            <a:ext cx="5429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0:20:17Z</dcterms:created>
  <dc:creator>User</dc:creator>
  <dc:description/>
  <dc:language>en-US</dc:language>
  <cp:lastModifiedBy>1</cp:lastModifiedBy>
  <dcterms:modified xsi:type="dcterms:W3CDTF">2020-10-16T12:41:05Z</dcterms:modified>
  <cp:revision>503</cp:revision>
  <dc:subject/>
  <dc:title>Слайд 1</dc:title>
</cp:coreProperties>
</file>